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B66-BCAD-4301-88DC-B8FA930E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F1D-0350-42C8-8543-79C0B79D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08A-1EE7-4F22-B820-E5B1EB73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9E5-FD81-47FC-BBD8-59DA6908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5B0C-F9DC-458F-B7CF-7D688D52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EE59-900B-4C21-AC70-C7CB8F9E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7919-54FE-42F6-AD14-32C92ED2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2CCB-3758-4C67-B651-4D5DFF5E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F867-700E-412A-92F4-7B13A287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AB50-169E-4404-9F0A-E430B97E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E7F7-4E33-4128-BB89-9ABF042D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359-9631-4ED7-B84E-DF978F87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5F26-D010-420E-A54B-5437C1E8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2AF2-4778-4103-AFE1-B5E2CEF1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27C9-EA6C-47C0-9CBB-E3915F7F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ECB5-0599-4B83-9892-0C332EE6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66FB-341C-4CA6-AC1B-3DF48409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B65-14C7-40ED-8DDA-41C11AEA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A8A-2B7F-4072-AF52-072564B9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1E9-A06F-4011-9689-D5C66F53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6D5-0386-4577-97A7-FD4B3D3A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ED73-0364-4144-B5C8-4F9928E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240-55D6-4A20-A24F-F6B2B0F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A35-DB4D-4A1B-99EA-157741AD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3BB2-D4A2-4CC2-822E-35F0AC44D3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2C21-1B89-4D10-8D22-A1174A7944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44480"/>
          <a:ext cx="4214880" cy="488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44480"/>
                    <a:ext cx="4214880" cy="48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0-31T06:13:30Z</dcterms:modified>
  <cp:revision>38</cp:revision>
  <dc:subject/>
  <dc:title>Структура собственных доходов на 2016 год бюджета Дальнереченского городского округа</dc:title>
</cp:coreProperties>
</file>